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78F-6248-48A9-A9F9-CE122498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E5D9-B791-4003-8C8E-42338DB7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B9D-05D3-4381-AE0B-E0EA24AF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8CF5-04E8-452A-95AA-F49080D1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BF0CC-BB7A-43A1-9BAE-1AAEB7AF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0CF6-DAF4-465E-A372-D1B9C2A0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13E2-2414-44A2-820F-336F0C80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911A-81CE-4F70-83B8-0EEB56F3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688C7-1781-4AEC-AB75-62C86A04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E7A1-1351-4893-ADF4-5BE34EC2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1D4F-9272-471B-9692-959BF1C3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80D-6A00-4B9C-9F21-75A41845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6450-CA0A-4429-9B01-8E458AD9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DDC7-48BB-49F0-B5CE-6406652E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39B5-7DE6-4893-BE6B-0405325B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7224-3170-4F86-A685-BCE923EA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584960"/>
            <a:ext cx="264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B79C-957B-44F7-A052-41D1012F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EB69-F690-4B84-91FE-A77E1092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9D74-2E97-41E6-B63E-FF652F13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1D3B-8EED-4413-89E5-0ECD41DC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297-22F1-46F6-82C0-A99B08D1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7F5C-1631-4F30-8EC2-E5742157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58496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EC31-E1E1-40CA-954E-DEE78D5D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584960"/>
            <a:ext cx="8229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EDE-D831-487A-86A0-A983653E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12D0-F567-474D-8A98-D77905DF0D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D47D-94C2-4168-9EBB-4ECB0FBA6D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Chapter 20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OLITICAL REALIGNMENTS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IN THE 1890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148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riffs, Trusts and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McKinley Tariff raises duties to historic hi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s Pension Act: By 1893, 1 million receiving pensions from union arm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Sherman Anti-Trust Act regulates bi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.S. vs. E.C. K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larifies that law does not apply to manufactur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: Sherman Silver Purchase Act moves country toward bi-metallic monetar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1890 Elec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lion Dollar” Congress alienates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also assert activist government policies on stat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day closing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hib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datory English in public sch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0: Alienated voting blocks turn out Republican legis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Rise of th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pulist Mov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34432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ntented farmers of West and South provide base of suppor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ational Farmers' Alliance and Industrial Union the res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rm Proble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ldwide agricultural economy causes great fluctuations in supply and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’ compl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er prices for crops (although purchasing power rising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railroad rates (rates actually decli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rous mortgages (loans permit production expans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of farmers vary by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l feeling of depression, resen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lected Commodity Pri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80880" y="1695600"/>
            <a:ext cx="8458200" cy="38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st-Grow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ers' Allianc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38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5: Southern Alliance beg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iance movement segregated, Colored Farmer’s National Al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troyed after leaders lynched in 18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9: Regional Alliances merge into National Farmer’s Alli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ision in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llman: Capture existing Democratic party to maintain white suprema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m Watson and Leondias Polk urge new pa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ing 1890, Alliance runs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akers like Mary “Yellin’” Lease promote Alliance candi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915400" cy="185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Fast-Grow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armers' Alliance: Ocala Dem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2209680"/>
            <a:ext cx="7848360" cy="518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stem of government warehouses to hold crops for high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oinage of sil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tariff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income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election of Senato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ion of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eople's Par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Alliance splits from Democrats to form Populis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Populists recruit African Americans, give them influential po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2: Populist presidential candidate James Weaver draws over one million v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es South to violence and intimidation by Southern Democra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es urban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iance wanes after 1892 elec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4621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risis of the Depr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crisis dominated the 18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overbuilt, companies grew beyond their markets, farms and businesses went deeply in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olitics of Stale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tics was a major fascination of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te males made up bulk of electo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may vote in national elections only in Wyoming, Utah, Idaho, Colo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men denied vote by poll tax, literacy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anic of 1893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93: Failure of major railroad sparks panic on New York Stock Ex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stors sell stock to purchase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leted Treasury shakes confi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, 1893: Market hits record low, business failures displace 2 million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4: Corn crop f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xey's Army and the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llman Strik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4: Jacob Coxey led “Coxey’s Army” to Washington to demand r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llman strike joined by Eugene Debs’ American Railway Union closed Western railro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Cleveland suppressed strikes with federal troops and Debs was ar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iners of the Midw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ed Mine Workers strike of 189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 miners”: English and Irish workers, owners of small family mi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miners”: 1880s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ke pits new miners against 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Beleaguered Presid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eveland repeals Sherman Silver Purchase Act to remedy Panic of 18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 fails to stop dep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l makes silver a political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renege on promise of lower tari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Breaking the Party Deadlo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of 1894 reduced Democrats to a sectional southern organ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swept congressional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became majority elsew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ing Attitud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of 1893 forced recognition of structural causes of un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accepted the need for government intervention to help the poor and jo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verybody Works but Father”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nd children paid lower wages, displaced men during depres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rs retaind women and children after depression to hold down co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hanging Themes in Literatur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encouraged “realist”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 Twain’s characters spoke in dia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Dean Howells, Stephen Crane portrayed grim life of the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k Norris attacked power of big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e Dreiser presented humans as  helpless before vast social, economic fo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residential Election of 1896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coinage of silver the main iss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 the money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as solution to de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voting patterns emerged and national policy shif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ystique of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001000" cy="544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and independent coinage of silver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ratio of silver to gold at 16: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mints coined all silver offered to th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.S. coined silver regardless of other nations’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ites believed amount in circulation determined level of economic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ral crusade for the common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arty Deadlock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-Civil War Democratic party divides electorate almost evenly with Republ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emphasize state’s rights and limited gover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ublicans see government as agent to promote moral progress and material weal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-party control of both Congress and White House r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party has safe states, control of federal government rests with 6 “doubtful” states in North and Midw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deral influence wanes, state control 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ublicans and Gol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:  William McKin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verite Republicans defeated on convention fl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d gold standard to restore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Democrats and Sil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:  William Jennings B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 silver promised in "Cross of Gold" spee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were enthusi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mpaign and Elec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ist party endorsed B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yan offered return to rural, religiou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inley defended urban, industrial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was a clear victory for McKinley, utter rout of Populist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3578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cKinley Administ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cKinley took office at depression’s 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ctivist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gley Tariff raised rates to record hig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: U.S. placed on gold stand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: McKinley won landslide reelection against William Jennings Bry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90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rcRect l="0" t="16584" r="0" b="2595"/>
          <a:stretch/>
        </p:blipFill>
        <p:spPr>
          <a:xfrm>
            <a:off x="457200" y="220968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 Decade’s Dramatic Chang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0320"/>
            <a:ext cx="8229600" cy="53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1901: McKinley assass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odore Roosevelt became presid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xperiments in the Stat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government commissions investigate, regulate railroads, fac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nn v. Illino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(1877) upholds constitutionality of state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bash case (1886) prompts establishment of Interstate Commerce Commission (IC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CC prototype for modern regulatory agen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establishing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idential Pow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30320"/>
            <a:ext cx="807732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cy hits nadir under John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r presidents reassert executi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ended military Reconstr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rfield asserted leadership of his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thur strengthened navy, civil service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veland used veto to curtail federal activities, called for low tarif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88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15700" r="0" b="0"/>
          <a:stretch/>
        </p:blipFill>
        <p:spPr>
          <a:xfrm>
            <a:off x="304920" y="2209680"/>
            <a:ext cx="853416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Election of 188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0" t="12350" r="0" b="0"/>
          <a:stretch/>
        </p:blipFill>
        <p:spPr>
          <a:xfrm>
            <a:off x="304920" y="2057400"/>
            <a:ext cx="861048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365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publicans in Power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Billion-Dollar Congres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8088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8: Republicans control both White House and Capitol Hi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90: Adoption of Reed Rules permits enactment of “billion dollar” progra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0T09:42:07Z</dcterms:created>
  <dc:creator>HstM3</dc:creator>
  <dc:description/>
  <cp:keywords/>
  <dc:language>en-US</dc:language>
  <cp:lastModifiedBy>Teresa Ward User</cp:lastModifiedBy>
  <cp:lastPrinted>2012-09-11T10:32:31Z</cp:lastPrinted>
  <dcterms:modified xsi:type="dcterms:W3CDTF">2006-11-09T18:42:25Z</dcterms:modified>
  <cp:revision>11</cp:revision>
  <dc:subject/>
  <dc:title>POLITICAL REALIGNMENTS IN THE 1890s</dc:title>
</cp:coreProperties>
</file>